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265-F6C2-4F6D-804B-9B943140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230-0040-4955-AD5E-AF4DE2EF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35D-B72C-4756-9815-6249E5D6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59C-BB8A-4954-9531-BB44D05C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280-DEA7-4306-B32A-696B927D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E1A-CF90-4F46-A072-20F2104B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97DF-D9CA-4A69-84FB-DC8F4AAE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517-D045-4BA8-A74C-FAA1732E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872-258D-4156-88A6-34C77146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FF12-3F79-407A-9757-CEBF46E0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2FA-EF2F-471B-98DB-044540B3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668-6713-469E-B32C-DB2EDF40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D85A-1961-4148-B5B8-5E7EE9EB7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taking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 + By =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- must be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and y must be on the left of the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ractions or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ng Ax + By = 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= -A/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intercept = C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intercept = C/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 + y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– y =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int = -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int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44575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/5x +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y = 2x +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 + 5y =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– 5y = 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int =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int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267080" y="2438280"/>
            <a:ext cx="41529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 = 1/2y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x = y +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x – y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 + y = 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int =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int = 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14800" y="2438280"/>
            <a:ext cx="43052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in standard fo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,1) and (3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=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– 1 = ½(x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– 1 = 1/2x 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y – 2 = x –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– 2y 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4:48:23Z</dcterms:created>
  <dc:creator>Troy Clarke</dc:creator>
  <dc:description/>
  <dc:language>en-US</dc:language>
  <cp:lastModifiedBy>Troy Clarke</cp:lastModifiedBy>
  <dcterms:modified xsi:type="dcterms:W3CDTF">2007-12-05T15:07:14Z</dcterms:modified>
  <cp:revision>3</cp:revision>
  <dc:subject/>
  <dc:title>Standard Form</dc:title>
</cp:coreProperties>
</file>